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3EA7-B1C2-4B88-926B-56AA09BB7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C8F28-70C3-4845-BBD5-250B70930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CAE9-BCDE-4CA8-AC29-368828DC5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1D29-5382-4402-BC54-DC7A0BB7C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3C97-7A24-4B76-9DF6-0B00E912E6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C6E2-2193-4A53-B22E-BE30878020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E33A-5E15-49C7-B029-6F860E3E5C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C2D69-F605-4A5F-B6C7-C7B535F09C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8CF6-B426-4251-80D6-46FC570042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25E9-2ABF-4455-8A20-CE80A91E66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F14A2-135D-4C24-8EEE-29F5E3CDCB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06A2-EBA5-4A27-A0B3-1F46E85A2A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4DD2-237A-42A8-883E-F433BB6951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46726-7414-4496-9F81-CECBCD0C19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035B-0182-48AD-ABFE-B18F9FC5F9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29D90-1718-4BEE-98B1-AC56854C20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1F5A-0B59-48F6-974E-89ABB5CB772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64E-7433-49EB-B83C-36F331D29C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956-AE4D-4184-9374-EB579218F0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7565-32B2-4B17-8696-FDF342339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91F-88BA-4A83-B06F-CA14365A04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36D-D138-4AB0-B9F8-642B358D0F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52DC-52F1-4856-BAEA-B38176F519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F51-35CA-4161-A40A-4D7627E019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DCA-4785-49AD-A39F-83BB08260B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F06-EFCA-423D-805B-91005BA6C0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0A5-F03A-4232-AB41-62F732BF89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EC4-4417-4B33-BA5E-F60B9CCBDA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ECF-68DA-4A82-BF72-75F7047F00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475-ABCC-40AB-8739-31E626CF01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07F2A-8A54-429A-B2A2-748D6C9459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9116-0DE0-46C5-9606-E2B1B81FA90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541E-3E9F-4F08-9E74-BA61D3CE0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B265-252E-40FC-96D7-7C32E313C2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24CA-1726-47F5-9E0C-CEC69FC662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C4AE0-535C-43F9-9CDE-1345B9A28E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CBEC0-1666-4734-BB54-7DF9E297BC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E4CA2-B1DA-49EA-BEC3-32EC33E59A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D4832-462D-49CF-82F6-292DCF3A420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1EA69-0538-4FA6-B938-10613B04F43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68584-DF31-422F-BF90-B8827DE040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EE3E-80E6-4ED3-BC6B-6A14753AAA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DC469-3826-4E9E-8CCE-2D36FE931D0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4D7ED-B1FE-4C18-B92F-9E87A231B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D417-838D-46E5-BDD5-5CFAFCC51D9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A5D79-E455-4C3C-8A61-E1E3C124D2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9C3C6-0FE7-4ABA-AC04-B4F6BCD7F42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737A3-9964-4CA4-9827-2F53EDFB9C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347C6-0AF3-4965-9346-6CEF33EF13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59863-C411-4116-92C4-40D94003A82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61553-5B57-45EA-8E3C-4AA799FF15C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568FE-380D-4D95-BB7B-E6E75C524D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5965E-3721-4D89-A981-0695A2CE6F2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A3353-53D8-46A5-A5EA-269C6D9ACD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0B43D-4BC2-4B11-AF17-3209A592B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A2888-5701-4198-BE53-62EBF57CF0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82304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188520" y="159876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182304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3188520" y="3963600"/>
            <a:ext cx="130032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24E2E-86FB-4C4B-A74B-4AA077296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82FA-ECBF-4BF0-9F22-979CBBA4A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26840" y="396360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95BC-3CBA-4C34-A32C-E52298A2E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526840" y="1598760"/>
            <a:ext cx="197064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38480" cy="2159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202FC-8798-44EF-A5E3-5644554DC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0724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795240" indent="-164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124640" indent="-164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453680" indent="-164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CD4D-F6A4-4F74-9251-C4C663820581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562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2019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A4E-3FF6-4BD5-809A-195D914D872C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marL="1404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140400" indent="-140400" algn="ctr">
              <a:spcBef>
                <a:spcPts val="799"/>
              </a:spcBef>
              <a:buClr>
                <a:srgbClr val="878787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140400" indent="-140400" algn="ctr">
              <a:spcBef>
                <a:spcPts val="799"/>
              </a:spcBef>
              <a:buClr>
                <a:srgbClr val="000000"/>
              </a:buClr>
              <a:buFont typeface="Lucida Gran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66BA-4436-42E4-9FEA-A8A17FE37221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4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646-864C-4668-8F5D-7E58D8093BF3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5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603-CE67-434E-9B60-030BB240FE1F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Bell Ringer 10-29</a:t>
            </a: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8760"/>
            <a:ext cx="73152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What do you believe is the most important vocab to life in Ancient India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A15C-0247-4FC3-A8EE-04BA95BA65F5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99840"/>
            <a:ext cx="807732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g 7: India Map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Pg 8: Geo C-n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F5DD-5283-4274-8E93-31C504B8B79B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522440"/>
            <a:ext cx="4267440" cy="49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cc"/>
                </a:solidFill>
                <a:latin typeface="Lucida Grande"/>
              </a:rPr>
              <a:t>Subcontinen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. a large region separated from the rest of the continent by natural featur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he region is called a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subcontinen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because it is so large and separated by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water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from other land areas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800600" y="1247760"/>
            <a:ext cx="4343400" cy="558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Himalaya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2171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South Asia is home to the world’s tallest mountain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he Himalaya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. The Himalayas were formed whe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smaller plate pushed up under the larger plate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The Himalayas are still rising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d. Mount Everest is its </a:t>
            </a:r>
            <a:r>
              <a:rPr b="0" lang="en-US" sz="2800" spc="-1" strike="noStrike" u="sng">
                <a:solidFill>
                  <a:srgbClr val="d90b00"/>
                </a:solidFill>
                <a:uFillTx/>
                <a:latin typeface="Lucida Grande"/>
              </a:rPr>
              <a:t>highest peak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2540160" y="462276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South Asia Landform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Eight Countries make up South Asia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. Indi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i. Pakis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ii. Nepa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v. Bhu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. Afghanista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. Bangladesh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i. Sri Lank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viii. Maldives Island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006880" y="2362320"/>
            <a:ext cx="4132440" cy="4494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South Asia Landforms cont.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1760" y="1869840"/>
            <a:ext cx="4038480" cy="44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These countries have differ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 landform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he </a:t>
            </a:r>
            <a:r>
              <a:rPr b="1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Hindu Kush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mountains are in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northwes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and the </a:t>
            </a:r>
            <a:r>
              <a:rPr b="1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Himalayas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 are in the </a:t>
            </a:r>
            <a:r>
              <a:rPr b="0" lang="en-US" sz="2400" spc="-1" strike="noStrike" u="sng">
                <a:solidFill>
                  <a:srgbClr val="d90b00"/>
                </a:solidFill>
                <a:uFillTx/>
                <a:latin typeface="Lucida Grande"/>
              </a:rPr>
              <a:t>northeast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. These mountain ranges separate South Asia from the rest of the continent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192560" y="1905120"/>
            <a:ext cx="49640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River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The </a:t>
            </a:r>
            <a:r>
              <a:rPr b="0" lang="en-US" sz="2800" spc="-1" strike="noStrike" u="sng">
                <a:solidFill>
                  <a:srgbClr val="ff2712"/>
                </a:solidFill>
                <a:uFillTx/>
                <a:latin typeface="Lucida Grande"/>
              </a:rPr>
              <a:t>Indus, Ganges,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 and </a:t>
            </a:r>
            <a:r>
              <a:rPr b="0" lang="en-US" sz="2800" spc="-1" strike="noStrike" u="sng">
                <a:solidFill>
                  <a:srgbClr val="ff2712"/>
                </a:solidFill>
                <a:uFillTx/>
                <a:latin typeface="Lucida Grande"/>
              </a:rPr>
              <a:t>Brahmaputra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b. The rivers fan out across a flat plain called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Indo-Gange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Plain. 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. Monsoon season rains caus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flooding,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which spreads out mo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silt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to the field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3114720" cy="3343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4fe"/>
                </a:solidFill>
                <a:latin typeface="Lucida Grande"/>
              </a:rPr>
              <a:t>Indus River Valle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761840"/>
            <a:ext cx="4038480" cy="5156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lvl="1" marL="41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. </a:t>
            </a: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Much of the population in South Asia lives in crowded farming villages on the </a:t>
            </a: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Indo-Ganges Plai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. The Indus River Valley is on a plain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Pakistan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  <a:p>
            <a:pPr lvl="1" marL="41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. </a:t>
            </a: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It is the site of the world’s </a:t>
            </a:r>
            <a:r>
              <a:rPr b="0" lang="en-US" sz="2400" spc="-1" strike="noStrike" u="sng">
                <a:solidFill>
                  <a:srgbClr val="ff2712"/>
                </a:solidFill>
                <a:uFillTx/>
                <a:latin typeface="Lucida Grande"/>
              </a:rPr>
              <a:t>oldest civilizations.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4038840" cy="515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nna</dc:creator>
  <dc:description/>
  <cp:keywords/>
  <dc:language>en-US</dc:language>
  <cp:lastModifiedBy>Tyler Daughtry</cp:lastModifiedBy>
  <dcterms:modified xsi:type="dcterms:W3CDTF">2013-10-29T13:58:26Z</dcterms:modified>
  <cp:revision>3</cp:revision>
  <dc:subject/>
  <dc:title>Chapter 5: Ancient India</dc:title>
</cp:coreProperties>
</file>